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4DEF-E0AA-4821-BEBB-A2BC7F9B2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7796-35D2-4E30-AA0B-752180752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1CF2-6A02-4C5F-A128-DBBC78871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491D-436C-415D-873C-66D62F85E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0087-49D1-4704-91F2-E6D58B7DA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5B4C-6E91-48F5-A61B-FDDF6FC8A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2145-CBE8-4AB2-A1A1-11D3A6D43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EF2F-5B6D-424D-BD0B-CC3ABE3C1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A9EE-7FD0-4616-B7BB-AB1A5B0C7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E9D8-599A-4257-A65B-BCCD5EDC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1D80-DA8F-4F0C-AC43-95AF6730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9229-A4E1-4ED0-902D-56FABA60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A7A3-307F-4820-A9A0-ED34A63B5A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1685" r="1635" b="11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2338" r="1584" b="379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7467840" cy="4133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362240" y="1798560"/>
            <a:ext cx="3171600" cy="26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43000" y="1295280"/>
            <a:ext cx="7543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…</a:t>
            </a: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en la industria farmaceú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36760" y="762120"/>
            <a:ext cx="5573880" cy="31924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757520" y="3786120"/>
            <a:ext cx="1544400" cy="8985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371600" y="4751280"/>
            <a:ext cx="900000" cy="12225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438280" y="5522760"/>
            <a:ext cx="193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rospección y Explor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67160" y="4622760"/>
            <a:ext cx="115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reparación y Constr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9774800">
            <a:off x="3735360" y="4242960"/>
            <a:ext cx="514440" cy="254160"/>
          </a:xfrm>
          <a:prstGeom prst="rightArrow">
            <a:avLst>
              <a:gd name="adj1" fmla="val 50000"/>
              <a:gd name="adj2" fmla="val 50602"/>
            </a:avLst>
          </a:prstGeom>
          <a:solidFill>
            <a:srgbClr val="0c6d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9774800">
            <a:off x="2787480" y="5073120"/>
            <a:ext cx="514440" cy="254160"/>
          </a:xfrm>
          <a:prstGeom prst="rightArrow">
            <a:avLst>
              <a:gd name="adj1" fmla="val 50000"/>
              <a:gd name="adj2" fmla="val 50602"/>
            </a:avLst>
          </a:prstGeom>
          <a:solidFill>
            <a:srgbClr val="0c6d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24480" y="3529080"/>
            <a:ext cx="707760" cy="51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46680" y="2949480"/>
            <a:ext cx="708120" cy="51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354800" y="2370240"/>
            <a:ext cx="708120" cy="51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73400" y="1147680"/>
            <a:ext cx="1479600" cy="51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9774800">
            <a:off x="4975200" y="3592080"/>
            <a:ext cx="514440" cy="255600"/>
          </a:xfrm>
          <a:prstGeom prst="rightArrow">
            <a:avLst>
              <a:gd name="adj1" fmla="val 50000"/>
              <a:gd name="adj2" fmla="val 50317"/>
            </a:avLst>
          </a:prstGeom>
          <a:solidFill>
            <a:srgbClr val="0c6d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9774800">
            <a:off x="6389640" y="2952360"/>
            <a:ext cx="514440" cy="254160"/>
          </a:xfrm>
          <a:prstGeom prst="rightArrow">
            <a:avLst>
              <a:gd name="adj1" fmla="val 50000"/>
              <a:gd name="adj2" fmla="val 50602"/>
            </a:avLst>
          </a:prstGeom>
          <a:solidFill>
            <a:srgbClr val="0c6d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9774800">
            <a:off x="7548480" y="2306160"/>
            <a:ext cx="514440" cy="254160"/>
          </a:xfrm>
          <a:prstGeom prst="rightArrow">
            <a:avLst>
              <a:gd name="adj1" fmla="val 50000"/>
              <a:gd name="adj2" fmla="val 50602"/>
            </a:avLst>
          </a:prstGeom>
          <a:solidFill>
            <a:srgbClr val="0c6d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12952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…</a:t>
            </a: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en la miner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99840" y="15238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...se trata de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distintos modos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de transformar,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de trabajar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con un recurso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y de obtener un producto de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mayor val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04760" y="1294920"/>
            <a:ext cx="60195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El recurso mineral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en sí mismo no tiene valor,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la actividad minera se lo d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447920" y="5334120"/>
            <a:ext cx="5486400" cy="457200"/>
          </a:xfrm>
          <a:prstGeom prst="rect">
            <a:avLst/>
          </a:prstGeom>
          <a:solidFill>
            <a:srgbClr val="0c6d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47920" y="3581280"/>
            <a:ext cx="5486400" cy="457200"/>
          </a:xfrm>
          <a:prstGeom prst="rect">
            <a:avLst/>
          </a:prstGeom>
          <a:solidFill>
            <a:srgbClr val="0c6d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990720"/>
            <a:ext cx="5943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PERÚ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Tiempos Promedio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182880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Verdana"/>
              </a:rPr>
              <a:t>Exploració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19520" y="190512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5 a 7 a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2286000"/>
            <a:ext cx="2895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Verdana"/>
              </a:rPr>
              <a:t>Pre operativ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0" y="2209680"/>
            <a:ext cx="3581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Oro: 9 años</a:t>
            </a:r>
            <a:br>
              <a:rPr sz="1600"/>
            </a:b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Cobre: 14 años</a:t>
            </a:r>
            <a:br>
              <a:rPr sz="1600"/>
            </a:b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Polimetálico: 16 a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350532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Total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19520" y="350532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14 a 23 añ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4343400"/>
            <a:ext cx="5715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Verdana"/>
              </a:rPr>
              <a:t>Inversión Promedio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4800600"/>
            <a:ext cx="5867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Verdana"/>
              </a:rPr>
              <a:t>ent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5257800"/>
            <a:ext cx="594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US$ 35 y 2,000 mill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191120" y="5016600"/>
            <a:ext cx="27939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1 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3,2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91120" y="3111480"/>
            <a:ext cx="23493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1504 Tonel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0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87600" y="1333440"/>
            <a:ext cx="2222280" cy="4318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50960" y="3174840"/>
            <a:ext cx="20955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aterial m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87600" y="5079960"/>
            <a:ext cx="2222280" cy="571680"/>
          </a:xfrm>
          <a:prstGeom prst="rect">
            <a:avLst/>
          </a:prstGeom>
          <a:solidFill>
            <a:srgbClr val="dc58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3880" y="5143680"/>
            <a:ext cx="23497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etal ref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873600" y="3238560"/>
            <a:ext cx="457200" cy="409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873600" y="5207040"/>
            <a:ext cx="457200" cy="4096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794640" y="990720"/>
            <a:ext cx="19684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cc3300"/>
                </a:solidFill>
                <a:latin typeface="Verdana"/>
              </a:rPr>
              <a:t>COB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048200" y="4989600"/>
            <a:ext cx="268920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1 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1,16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48200" y="3022560"/>
            <a:ext cx="24256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20 Tonel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0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60440" y="1187280"/>
            <a:ext cx="2293920" cy="4456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27040" y="3087720"/>
            <a:ext cx="21607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aterial m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60440" y="5052960"/>
            <a:ext cx="2293920" cy="590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5118120"/>
            <a:ext cx="242568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etal ref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720960" y="3152880"/>
            <a:ext cx="471600" cy="423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720960" y="5184720"/>
            <a:ext cx="471600" cy="4222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730920" y="990720"/>
            <a:ext cx="20322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99"/>
                </a:solidFill>
                <a:latin typeface="Verdana"/>
              </a:rPr>
              <a:t>ZIN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094280" y="5021280"/>
            <a:ext cx="30477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1 K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13,55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35440" y="3076560"/>
            <a:ext cx="265752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666,667 Kil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0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36760" y="1262160"/>
            <a:ext cx="2268360" cy="4408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01920" y="3141720"/>
            <a:ext cx="2138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aterial m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36760" y="5086440"/>
            <a:ext cx="2268360" cy="584280"/>
          </a:xfrm>
          <a:prstGeom prst="rect">
            <a:avLst/>
          </a:prstGeom>
          <a:solidFill>
            <a:srgbClr val="e2ac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5151600"/>
            <a:ext cx="23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Metal refin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770280" y="3206880"/>
            <a:ext cx="466920" cy="417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770280" y="5216400"/>
            <a:ext cx="466920" cy="4176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748560" y="1066680"/>
            <a:ext cx="20095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e2ac4e"/>
                </a:solidFill>
                <a:latin typeface="Verdana"/>
              </a:rPr>
              <a:t>OR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520" y="4495680"/>
            <a:ext cx="67053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c6db4"/>
                </a:solidFill>
                <a:latin typeface="Verdana"/>
              </a:rPr>
              <a:t>No existe divergencia </a:t>
            </a:r>
            <a:br>
              <a:rPr sz="2800"/>
            </a:br>
            <a:r>
              <a:rPr b="1" lang="es-PE" sz="2800" spc="-1" strike="noStrike">
                <a:solidFill>
                  <a:srgbClr val="0c6db4"/>
                </a:solidFill>
                <a:latin typeface="Verdana"/>
              </a:rPr>
              <a:t>entre las exportaciones mineras y el desarrollo de la indust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2438280"/>
            <a:ext cx="59436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47920" y="106668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c6db4"/>
                </a:solidFill>
                <a:latin typeface="Verdana"/>
              </a:rPr>
              <a:t>La disponibilidad de recursos naturales puede ser un elemento clave para el crecimiento en tanto se complement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00200" y="2438280"/>
            <a:ext cx="59436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1752480"/>
            <a:ext cx="5105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Exportaciones de bienes primari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Exportaciones de manufactu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492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8466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4495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c6db4"/>
                </a:solidFill>
                <a:latin typeface="Verdana"/>
              </a:rPr>
              <a:t>Percibidas erradamente como excluy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3915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c6db4"/>
                </a:solidFill>
                <a:latin typeface="Verdana"/>
              </a:rPr>
              <a:t>La evolución positiva del sector minero se ha visto reflejada en la demanda de insumos a la industria nacional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274320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c6db4"/>
                </a:solidFill>
                <a:latin typeface="Verdana"/>
              </a:rPr>
              <a:t>Estas industria han ampliado sus actividades y estan incursionando en otros paí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00200" y="2438280"/>
            <a:ext cx="59436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676520" y="1219320"/>
            <a:ext cx="327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quipos para procesamiento en general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764200" y="647712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76520" y="1219320"/>
            <a:ext cx="32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quipos electrónico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738440" y="1457280"/>
            <a:ext cx="3900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Suministros, partes y piezas y estructura de ac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764200" y="647712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90720" y="1219320"/>
            <a:ext cx="4038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Principales consumidores de explosivos, llantas, piezas de jefe y suministros de segur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05120" y="91440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Los industriales y los mineros podemos complementarnos y dimensionar nuestras posibilidades de generar valor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00200" y="1009800"/>
            <a:ext cx="3962520" cy="44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c6db4"/>
                </a:solidFill>
                <a:latin typeface="Verdana"/>
              </a:rPr>
              <a:t>Acciones coordinadas y conjunt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c6db4"/>
                </a:solidFill>
                <a:latin typeface="Verdana"/>
              </a:rPr>
              <a:t>Estableciendo mecanismos de información entre ambas actividad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c6db4"/>
                </a:solidFill>
                <a:latin typeface="Verdana"/>
              </a:rPr>
              <a:t>Facilitando la ejecución de planes de inversión e innovación tecnológic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1600200"/>
            <a:ext cx="701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l sector minero demandaría bienes y servicios de la industria de acuerdo a sus exigencias de calidad, cantidad, oportunidad y precio adecuado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52480" y="1219320"/>
            <a:ext cx="647712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l desarrollo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s más que políticas para lograr un crecimiento económ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s crecer hacia nuevas formas de hacer, de relacionarse y por tanto de produc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o sólo tiene que ver con apertura comercial y acceso a los merc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iene que ver con la forma en que una economía logra integrarse en sí mis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3880" y="2438280"/>
            <a:ext cx="3962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jar de exportar recursos natural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mpezar a exportar bienes elaborados en base a dichos recursos natur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mo la única mane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 lograr el 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09440" y="-9401040"/>
            <a:ext cx="8926560" cy="25660080"/>
            <a:chOff x="109440" y="-9401040"/>
            <a:chExt cx="8926560" cy="25660080"/>
          </a:xfrm>
        </p:grpSpPr>
        <p:sp>
          <p:nvSpPr>
            <p:cNvPr id="49" name=""/>
            <p:cNvSpPr/>
            <p:nvPr/>
          </p:nvSpPr>
          <p:spPr>
            <a:xfrm>
              <a:off x="109440" y="-9401040"/>
              <a:ext cx="8137440" cy="256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109440" y="-9401040"/>
              <a:ext cx="8926560" cy="24824880"/>
              <a:chOff x="109440" y="-9401040"/>
              <a:chExt cx="8926560" cy="24824880"/>
            </a:xfrm>
          </p:grpSpPr>
          <p:sp>
            <p:nvSpPr>
              <p:cNvPr id="51" name=""/>
              <p:cNvSpPr/>
              <p:nvPr/>
            </p:nvSpPr>
            <p:spPr>
              <a:xfrm>
                <a:off x="109440" y="-9401040"/>
                <a:ext cx="8137440" cy="2482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09440" y="-9401040"/>
                <a:ext cx="8926560" cy="224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41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" name=""/>
          <p:cNvGrpSpPr/>
          <p:nvPr/>
        </p:nvGrpSpPr>
        <p:grpSpPr>
          <a:xfrm>
            <a:off x="-563400" y="-23650560"/>
            <a:ext cx="8137440" cy="25660440"/>
            <a:chOff x="-563400" y="-23650560"/>
            <a:chExt cx="8137440" cy="25660440"/>
          </a:xfrm>
        </p:grpSpPr>
        <p:sp>
          <p:nvSpPr>
            <p:cNvPr id="54" name=""/>
            <p:cNvSpPr/>
            <p:nvPr/>
          </p:nvSpPr>
          <p:spPr>
            <a:xfrm>
              <a:off x="-563400" y="-23650560"/>
              <a:ext cx="8137440" cy="256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-563400" y="-23650560"/>
              <a:ext cx="8137440" cy="24825240"/>
              <a:chOff x="-563400" y="-23650560"/>
              <a:chExt cx="8137440" cy="24825240"/>
            </a:xfrm>
          </p:grpSpPr>
          <p:sp>
            <p:nvSpPr>
              <p:cNvPr id="56" name=""/>
              <p:cNvSpPr/>
              <p:nvPr/>
            </p:nvSpPr>
            <p:spPr>
              <a:xfrm>
                <a:off x="-563400" y="-23650560"/>
                <a:ext cx="8137440" cy="2482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-563400" y="-23650560"/>
                <a:ext cx="81374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2400"/>
                </a:b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" name=""/>
          <p:cNvGrpSpPr/>
          <p:nvPr/>
        </p:nvGrpSpPr>
        <p:grpSpPr>
          <a:xfrm>
            <a:off x="503280" y="-23550480"/>
            <a:ext cx="8137440" cy="25660440"/>
            <a:chOff x="503280" y="-23550480"/>
            <a:chExt cx="8137440" cy="25660440"/>
          </a:xfrm>
        </p:grpSpPr>
        <p:sp>
          <p:nvSpPr>
            <p:cNvPr id="59" name=""/>
            <p:cNvSpPr/>
            <p:nvPr/>
          </p:nvSpPr>
          <p:spPr>
            <a:xfrm>
              <a:off x="503280" y="-23550480"/>
              <a:ext cx="8137440" cy="256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503280" y="-23550480"/>
              <a:ext cx="8137440" cy="24825240"/>
              <a:chOff x="503280" y="-23550480"/>
              <a:chExt cx="8137440" cy="24825240"/>
            </a:xfrm>
          </p:grpSpPr>
          <p:sp>
            <p:nvSpPr>
              <p:cNvPr id="61" name=""/>
              <p:cNvSpPr/>
              <p:nvPr/>
            </p:nvSpPr>
            <p:spPr>
              <a:xfrm>
                <a:off x="503280" y="-23550480"/>
                <a:ext cx="8137440" cy="2482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03280" y="-23550480"/>
                <a:ext cx="81374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2400"/>
                </a:b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" name=""/>
          <p:cNvGrpSpPr/>
          <p:nvPr/>
        </p:nvGrpSpPr>
        <p:grpSpPr>
          <a:xfrm>
            <a:off x="503280" y="27757440"/>
            <a:ext cx="5715000" cy="2651040"/>
            <a:chOff x="503280" y="27757440"/>
            <a:chExt cx="5715000" cy="2651040"/>
          </a:xfrm>
        </p:grpSpPr>
        <p:sp>
          <p:nvSpPr>
            <p:cNvPr id="64" name=""/>
            <p:cNvSpPr/>
            <p:nvPr/>
          </p:nvSpPr>
          <p:spPr>
            <a:xfrm>
              <a:off x="503280" y="27757440"/>
              <a:ext cx="5715000" cy="20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3280" y="27757440"/>
              <a:ext cx="3657600" cy="265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4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47920" y="1066680"/>
            <a:ext cx="670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Propuesta económica de fina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de los sesent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1371600"/>
            <a:ext cx="7086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l desarrollo hoy tiene que ver aprovechar tanto los recurs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tangibles como los intangibl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752480"/>
            <a:ext cx="426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Se ha invertido en capital humano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-130320" y="-1457280"/>
            <a:ext cx="9406080" cy="9772560"/>
            <a:chOff x="-130320" y="-1457280"/>
            <a:chExt cx="9406080" cy="9772560"/>
          </a:xfrm>
        </p:grpSpPr>
        <p:sp>
          <p:nvSpPr>
            <p:cNvPr id="166" name=""/>
            <p:cNvSpPr/>
            <p:nvPr/>
          </p:nvSpPr>
          <p:spPr>
            <a:xfrm>
              <a:off x="-130320" y="-1457280"/>
              <a:ext cx="6823080" cy="977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-130320" y="-1457280"/>
              <a:ext cx="9406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-130320" y="-1457280"/>
            <a:ext cx="9406080" cy="9772560"/>
            <a:chOff x="-130320" y="-1457280"/>
            <a:chExt cx="9406080" cy="9772560"/>
          </a:xfrm>
        </p:grpSpPr>
        <p:sp>
          <p:nvSpPr>
            <p:cNvPr id="170" name=""/>
            <p:cNvSpPr/>
            <p:nvPr/>
          </p:nvSpPr>
          <p:spPr>
            <a:xfrm>
              <a:off x="-130320" y="-1457280"/>
              <a:ext cx="6823080" cy="977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-130320" y="-1457280"/>
              <a:ext cx="9406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817640" y="1951200"/>
            <a:ext cx="5508720" cy="3324600"/>
            <a:chOff x="1817640" y="1951200"/>
            <a:chExt cx="5508720" cy="3324600"/>
          </a:xfrm>
        </p:grpSpPr>
        <p:sp>
          <p:nvSpPr>
            <p:cNvPr id="173" name=""/>
            <p:cNvSpPr/>
            <p:nvPr/>
          </p:nvSpPr>
          <p:spPr>
            <a:xfrm>
              <a:off x="1817640" y="1951200"/>
              <a:ext cx="5508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817640" y="1951200"/>
              <a:ext cx="3616200" cy="332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0" lang="en-US" sz="14000" spc="-1" strike="noStrike">
                  <a:solidFill>
                    <a:srgbClr val="000000"/>
                  </a:solidFill>
                  <a:latin typeface="Georgia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1635120" y="2370240"/>
            <a:ext cx="5875200" cy="2117520"/>
            <a:chOff x="1635120" y="2370240"/>
            <a:chExt cx="5875200" cy="2117520"/>
          </a:xfrm>
        </p:grpSpPr>
        <p:sp>
          <p:nvSpPr>
            <p:cNvPr id="176" name=""/>
            <p:cNvSpPr/>
            <p:nvPr/>
          </p:nvSpPr>
          <p:spPr>
            <a:xfrm>
              <a:off x="1635120" y="2370240"/>
              <a:ext cx="5875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35120" y="2370240"/>
              <a:ext cx="5875200" cy="21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0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1447920" y="2057400"/>
            <a:ext cx="3276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Contamos con recurso humano, con conocimiento, capacidades y experiencia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-130320" y="-1457280"/>
            <a:ext cx="9406080" cy="9772560"/>
            <a:chOff x="-130320" y="-1457280"/>
            <a:chExt cx="9406080" cy="9772560"/>
          </a:xfrm>
        </p:grpSpPr>
        <p:sp>
          <p:nvSpPr>
            <p:cNvPr id="181" name=""/>
            <p:cNvSpPr/>
            <p:nvPr/>
          </p:nvSpPr>
          <p:spPr>
            <a:xfrm>
              <a:off x="-130320" y="-1457280"/>
              <a:ext cx="6823080" cy="977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-130320" y="-1457280"/>
              <a:ext cx="9406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1817640" y="1951200"/>
            <a:ext cx="5508720" cy="3324600"/>
            <a:chOff x="1817640" y="1951200"/>
            <a:chExt cx="5508720" cy="3324600"/>
          </a:xfrm>
        </p:grpSpPr>
        <p:sp>
          <p:nvSpPr>
            <p:cNvPr id="184" name=""/>
            <p:cNvSpPr/>
            <p:nvPr/>
          </p:nvSpPr>
          <p:spPr>
            <a:xfrm>
              <a:off x="1817640" y="1951200"/>
              <a:ext cx="5508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817640" y="1951200"/>
              <a:ext cx="3616200" cy="332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0" lang="en-US" sz="14000" spc="-1" strike="noStrike">
                  <a:solidFill>
                    <a:srgbClr val="000000"/>
                  </a:solidFill>
                  <a:latin typeface="Georgia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1635120" y="2370240"/>
            <a:ext cx="5875200" cy="2117520"/>
            <a:chOff x="1635120" y="2370240"/>
            <a:chExt cx="5875200" cy="2117520"/>
          </a:xfrm>
        </p:grpSpPr>
        <p:sp>
          <p:nvSpPr>
            <p:cNvPr id="187" name=""/>
            <p:cNvSpPr/>
            <p:nvPr/>
          </p:nvSpPr>
          <p:spPr>
            <a:xfrm>
              <a:off x="1635120" y="2370240"/>
              <a:ext cx="5875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635120" y="2370240"/>
              <a:ext cx="5875200" cy="21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0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1143000" y="1600200"/>
            <a:ext cx="3733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Hubiera sido más provechoso para el país, exportar talentos que exportar personas con talento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752480" y="2438280"/>
            <a:ext cx="6324840" cy="21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l desarrollo hoy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iene que ver con lograr hacer de las ventajas que se tienen se conviertan en un elemento de competencia positiva respecto de los otros paí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09680" y="1752480"/>
            <a:ext cx="632484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lementos para defini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ventaja comparativ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roximidad a 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nocimiento téc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apital humano dispon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isponibilidad de infraestructura púb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alidad de instit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52480" y="914400"/>
            <a:ext cx="56390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Tiene el Perú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roximidad a mercad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52480" y="914400"/>
            <a:ext cx="7010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Tiene el Perú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nocimiento técnico y capital huma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52480" y="914400"/>
            <a:ext cx="7010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Tiene el Perú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isponibilidad de infraestructura públic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752480" y="1371600"/>
            <a:ext cx="693432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Tiene el Perú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Instituciones de calida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Necesitamos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an sólidas, técnicas y transpar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umplan a cabalidad su rol normativo, regulador y fiscaliza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Que estén presentes en los rincones del país donde sean necesar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676520" y="2666880"/>
            <a:ext cx="64767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Pero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os resultados no fueron los esp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52480" y="2514600"/>
            <a:ext cx="69343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Necesitamos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o haya ruido polít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 reponga el principio de autor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gobierno de señales claras que democracia es respetar las ley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1905120"/>
            <a:ext cx="563868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 base al esfuerzo y empeño de nuestra gente contamos con parte de las variables requeridas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ero necesitamos instituciones que funcionen, se respeten y hagan respet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Que el estado cumpla con un rol subsidi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00200" y="1371600"/>
            <a:ext cx="7162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960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."La dicotomía entre una base de recursos naturales y la 'economía del conocimiento' es falsa. Los recursos naturales tienen el mismo gran potencial para generar progreso tecnológico y crecimiento que muchas industrias manufactureras. Al igual que otras industrias, su éxito depende de la aplicación de conocimientos, capital humano, instituciones sólidas y el compromiso de aprovechar las reservas globales de conocimientos prácticos y progreso tecnológico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960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5120" y="106632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Dos elementos claves </a:t>
            </a:r>
            <a:br>
              <a:rPr sz="2800"/>
            </a:b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no considerado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5120" y="228600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Verdana"/>
              </a:rPr>
              <a:t>Acceso a la tecnología adecu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xistencia de mercados exteri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295280" y="1295280"/>
            <a:ext cx="601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Hoy el Perú es un exportador más sól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502920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Ofrece productos primarios y muchos no tradi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371600" y="129528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Ambos tipos de exportacio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son importantes y añaden valor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410080" y="472608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2640" y="4800240"/>
            <a:ext cx="7543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las operaciones mineras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no </a:t>
            </a:r>
            <a:r>
              <a:rPr b="1" lang="en-US" sz="2800" spc="-1" strike="noStrike">
                <a:solidFill>
                  <a:srgbClr val="0c6db4"/>
                </a:solidFill>
                <a:latin typeface="Verdana"/>
              </a:rPr>
              <a:t>sólo se tratan de la extracción </a:t>
            </a:r>
            <a:br>
              <a:rPr sz="2800"/>
            </a:br>
            <a:r>
              <a:rPr b="1" lang="en-US" sz="2800" spc="-1" strike="noStrike">
                <a:solidFill>
                  <a:srgbClr val="0c6db4"/>
                </a:solidFill>
                <a:latin typeface="Verdana"/>
              </a:rPr>
              <a:t>y venta de minerales…</a:t>
            </a: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71816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7619760" cy="3754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219320" y="2239920"/>
            <a:ext cx="260640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43000" y="1295280"/>
            <a:ext cx="5715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…</a:t>
            </a: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en la industria text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3:38:07Z</dcterms:created>
  <dc:creator>----- -----</dc:creator>
  <dc:description/>
  <dc:language>en-US</dc:language>
  <cp:lastModifiedBy>PCLARCE</cp:lastModifiedBy>
  <cp:lastPrinted>2004-10-27T01:23:05Z</cp:lastPrinted>
  <dcterms:modified xsi:type="dcterms:W3CDTF">2004-10-27T23:44:43Z</dcterms:modified>
  <cp:revision>56</cp:revision>
  <dc:subject/>
  <dc:title>PowerPoint Presentation</dc:title>
</cp:coreProperties>
</file>